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  <p:custShowLst>
    <p:custShow name="Chapter" id="0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</p:sldLst>
    </p:custShow>
    <p:custShow name="Sect 2" id="1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20"/>
        <p:sld r:id="rId21"/>
        <p:sld r:id="rId22"/>
        <p:sld r:id="rId23"/>
        <p:sld r:id="rId24"/>
        <p:sld r:id="rId25"/>
        <p:sld r:id="rId26"/>
        <p:sld r:id="rId27"/>
      </p:sldLst>
    </p:custShow>
    <p:custShow name="Transparencies" id="2">
      <p:sldLst>
        <p:sld r:id="rId3"/>
        <p:sld r:id="rId19"/>
      </p:sldLst>
    </p:custShow>
    <p:custShow name="Chapter menu" id="3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</p:sldLst>
    </p:custShow>
    <p:custShow name="Brain Food" id="4">
      <p:sldLst>
        <p:sld r:id="rId2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686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earth_sci_cont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28600" y="5724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oduction to Earth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7238880" y="76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4724280" y="6140520"/>
            <a:ext cx="838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>
            <a:hlinkClick r:id="" action="ppaction://hlinkshowjump?jump=nextslide"/>
          </p:cNvPr>
          <p:cNvSpPr/>
          <p:nvPr/>
        </p:nvSpPr>
        <p:spPr>
          <a:xfrm>
            <a:off x="5867280" y="6154560"/>
            <a:ext cx="83844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>
            <a:hlinkClick r:id="" action="ppaction://hlinkshowjump?jump=previousslide"/>
          </p:cNvPr>
          <p:cNvSpPr/>
          <p:nvPr/>
        </p:nvSpPr>
        <p:spPr>
          <a:xfrm>
            <a:off x="4781520" y="6172200"/>
            <a:ext cx="878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4">
            <a:hlinkClick r:id="" action="ppaction://hlinkshowjump?jump=nextslide"/>
          </p:cNvPr>
          <p:cNvSpPr/>
          <p:nvPr/>
        </p:nvSpPr>
        <p:spPr>
          <a:xfrm>
            <a:off x="5791320" y="6172200"/>
            <a:ext cx="8856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5"/>
          <p:cNvSpPr/>
          <p:nvPr/>
        </p:nvSpPr>
        <p:spPr>
          <a:xfrm>
            <a:off x="6821640" y="6172200"/>
            <a:ext cx="1095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6">
            <a:hlinkClick r:id="" action="ppaction://hlinkshowjump?jump=endshow"/>
          </p:cNvPr>
          <p:cNvSpPr/>
          <p:nvPr/>
        </p:nvSpPr>
        <p:spPr>
          <a:xfrm>
            <a:off x="8048520" y="6172200"/>
            <a:ext cx="849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ction 2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ience as a Proces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2800" y="149508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havior of Natural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fic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fic Measurements and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ptance of Scientific Id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ce and Soci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s in 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cientific Method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est the Hypothes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a hypothesis is proposed, it is commonly tested by performing experiments. An experiment is a procedure that is carried out according to certain guidel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ndependent variabl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n experiment,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pendent variabl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n experiment,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cientific Method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raw Conclus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many experiments and observations, a scientist may reach conclusions about his or her hypothe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 hypothesis fits the known facts, it may be accepted as tr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 experimental results differ from what was expected, the hypothesis is changed or discard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sults of scientific inquiry may lead to new knowledge and new methods of inquiry that further scientific ai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cientific Measurements and Analysi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 is the comparison of some aspect of an object or event with a standard un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around the world can compare and analyze each other’s measurements because scientists use a common system of measurements called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cientific Measurements and Analysi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457200" y="169056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ccuracy and Pr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curac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fers to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ecis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cientific Measurements and Analysi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902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rr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ror is an expression of the amount of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ror is commonly expressed as percentage error or as a confidence interv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cientific Measurements and Analysi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9020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bservations and Model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Earth science, using controlled experiments to test hypotheses is often imposs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experiments are impossible, scientists make additional observations to gather evid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ypothesis is then tested by examining how well the hypothesis fits or explains all of the known evid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cientific Measurements and Analysi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905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bservations and Models, continu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also use models to simulate conditions in the natural worl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odel is a *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use several types of models, including physical models, graphical models, conceptual models, mathematical models, and computer mod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7400" y="761760"/>
            <a:ext cx="8445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odel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81" name="ShockwaveFlash1"/>
          <p:cNvGraphicFramePr/>
          <p:nvPr/>
        </p:nvGraphicFramePr>
        <p:xfrm>
          <a:off x="2149560" y="1676520"/>
          <a:ext cx="4937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9560" y="1676520"/>
                    <a:ext cx="4937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cceptance of Scientific Idea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fic understanding moves forward through the work of many scientists, who build on the research of the generations of scientists before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cientists reach a conclusion, they introduce their findings to the scientific commun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ublication of Results and Conclu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commonly present the results of their work in scientific journals or at professional meeting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s published in journals are usually written in a standard scientific form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4582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cceptance of Scientific Idea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eer Revie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follow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thical code that states that only valid experimental results should be publish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reduce bias, scientists submit their ideas to other scientists for peer revie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eer revie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cess in which experts in a given field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68544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science is different from other forms of human endeav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den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eps that make up scientific meth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naly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scientific thought changes as new information is collec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science affects socie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4582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cceptance of Scientific Idea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84582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ormulating a Theo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28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hen an idea has undergone much testing and reaches general acceptance, that idea may help form a theory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28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theory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*; that is supported by a large quantity of evidence; and that does not conflict with any existing experimental results or observation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28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A scientific law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s *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cceptance of Scientific Idea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Importance of Interdisciplinary Scien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from many disciplines commonly contribute the information necessary to support an id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ree exchange of ideas between fields of science allows scientists to identify explanations that fit a wide range of scientific evid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an explanation is supported by evidence from a variety of fields, the explanation is more likely to be accur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cceptance of Scientific Idea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diagr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hows how interdisciplinary science helped develop the impact hypothesis of the extinction of the dinosau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9" descr="Untitled-11 copy"/>
          <p:cNvPicPr/>
          <p:nvPr/>
        </p:nvPicPr>
        <p:blipFill>
          <a:blip r:embed="rId1"/>
          <a:stretch/>
        </p:blipFill>
        <p:spPr>
          <a:xfrm>
            <a:off x="1071720" y="2462040"/>
            <a:ext cx="6624360" cy="35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cience and Society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ork of people, including scientists, is influenced by their cultural and personal belief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ce is a part of society, and advances in science can have important and long-lasting effects on both science and socie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cience and Society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ce is also used to develop new technology, including new tools, machines, materials, and 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technologies are designed to address a specific human ne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other cases, technology is an indirect result of science that was directed at another go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cience and Society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who are involved in research that leads to new technologies have an obligation to consider the possible negative effects of their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making decisions about technology, people should consider the alternatives, risks, and costs and benefits to humans and to Ear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73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aps in Actio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73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logic Features and Political Boundaries in Eur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8" descr="Untitled-12 copy"/>
          <p:cNvPicPr/>
          <p:nvPr/>
        </p:nvPicPr>
        <p:blipFill>
          <a:blip r:embed="rId1"/>
          <a:stretch/>
        </p:blipFill>
        <p:spPr>
          <a:xfrm>
            <a:off x="1752480" y="2133720"/>
            <a:ext cx="5538960" cy="383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ehavior of Natural System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oal of science is *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ask questions about natural events and then work to answer those questions through experiments and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ehavior of Natural System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start with the assumption that nature is understandab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also expect that similar forces in a similar situation will cause similar resul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also expect that nature is predictable, which means tha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cientific Method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 time, the scientific community has developed organized and logical approaches to scientific research. These approaches are known 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cientific meth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fic methods are not a set of sequential steps that scientists always follow. Rather these methods are guidelines to scientific problem solv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cientific Method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a basic flowchart of scientific meth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9" descr="Untitled-10 copy"/>
          <p:cNvPicPr/>
          <p:nvPr/>
        </p:nvPicPr>
        <p:blipFill>
          <a:blip r:embed="rId1"/>
          <a:stretch/>
        </p:blipFill>
        <p:spPr>
          <a:xfrm>
            <a:off x="609480" y="2562120"/>
            <a:ext cx="8001000" cy="22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cientific Method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sk a Ques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bserv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cess of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fic investigations often start with observ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ations commonly lead to ques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questions have fueled years of scientific research and have been investigated through scientific meth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cientific Method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orm a Hypothes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hypothesi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ce a question has been asked and basic information has been gathered, a scientist may propose a tentative answer, which is also known as a hypothe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hypotheses are based on known facts about similar ev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8278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cientific Method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ading Che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 two ways scientific methods depend on careful observ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bservations may lead to interesting scientific questions and may help scientists formulate reasonable and testable hypothe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it Rocksund</dc:creator>
  <dc:description/>
  <dc:language>en-US</dc:language>
  <cp:lastModifiedBy>trocksund</cp:lastModifiedBy>
  <cp:lastPrinted>2004-02-20T14:12:55Z</cp:lastPrinted>
  <dcterms:modified xsi:type="dcterms:W3CDTF">2013-08-25T18:38:40Z</dcterms:modified>
  <cp:revision>725</cp:revision>
  <dc:subject/>
  <dc:title>No Slide Title</dc:title>
</cp:coreProperties>
</file>